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2822-0103-4A17-B361-481B76C0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35CE-B76B-40BA-AAE6-5D4BBD59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A66E-535B-4863-B24F-95F30310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CD8A-AF6D-4FD8-8F9A-85D970E9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5268-5469-4E43-B3CD-43BE18AB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D62B-C89A-482F-926C-EA12F4CD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4FD8-829B-47D6-8B5E-1B9B7F6D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DBC2-D451-49D4-A6EE-8872A753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FF4-5FBD-47BD-95EA-456C7E3F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022F-60BA-44D4-89ED-245DD098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A038-31E2-4F37-B713-4AC3AA82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480F-7C50-44D9-89CC-9544C5A8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E975-8FAB-45C9-B50A-76D5AE8A1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FI-logo-final-color"/>
          <p:cNvPicPr/>
          <p:nvPr/>
        </p:nvPicPr>
        <p:blipFill>
          <a:blip r:embed="rId1"/>
          <a:stretch/>
        </p:blipFill>
        <p:spPr>
          <a:xfrm>
            <a:off x="1981080" y="1143000"/>
            <a:ext cx="5181840" cy="51814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27"/>
          <p:cNvSpPr/>
          <p:nvPr/>
        </p:nvSpPr>
        <p:spPr>
          <a:xfrm>
            <a:off x="805680" y="1494000"/>
            <a:ext cx="75416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Title Here (Helvetica, Bold, 32 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Core/Bridging Projec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Nam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0206"/>
                </a:solidFill>
                <a:latin typeface="Arial"/>
              </a:rPr>
              <a:t>Enzyme Function Initiative (E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y Committee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30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FI-logo-final-color"/>
          <p:cNvPicPr/>
          <p:nvPr/>
        </p:nvPicPr>
        <p:blipFill>
          <a:blip r:embed="rId1"/>
          <a:stretch/>
        </p:blipFill>
        <p:spPr>
          <a:xfrm>
            <a:off x="76320" y="190440"/>
            <a:ext cx="547560" cy="54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imark_bold"/>
          <p:cNvPicPr/>
          <p:nvPr/>
        </p:nvPicPr>
        <p:blipFill>
          <a:blip r:embed="rId2"/>
          <a:stretch/>
        </p:blipFill>
        <p:spPr>
          <a:xfrm>
            <a:off x="8736120" y="235080"/>
            <a:ext cx="338040" cy="438120"/>
          </a:xfrm>
          <a:prstGeom prst="rect">
            <a:avLst/>
          </a:prstGeom>
          <a:ln w="0">
            <a:noFill/>
          </a:ln>
        </p:spPr>
      </p:pic>
      <p:cxnSp>
        <p:nvCxnSpPr>
          <p:cNvPr id="45" name="Straight Arrow Connector 6"/>
          <p:cNvCxnSpPr/>
          <p:nvPr/>
        </p:nvCxnSpPr>
        <p:spPr>
          <a:xfrm flipV="1">
            <a:off x="8076240" y="837720"/>
            <a:ext cx="5338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" name="TextBox 7"/>
          <p:cNvSpPr/>
          <p:nvPr/>
        </p:nvSpPr>
        <p:spPr>
          <a:xfrm>
            <a:off x="6477120" y="137160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university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32"/>
          <p:cNvSpPr/>
          <p:nvPr/>
        </p:nvSpPr>
        <p:spPr>
          <a:xfrm>
            <a:off x="1420560" y="228600"/>
            <a:ext cx="63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Your slide title here (Helvetica, Bold, 24 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7:03:55Z</dcterms:created>
  <dc:creator>John Gerlt</dc:creator>
  <dc:description/>
  <dc:language>en-US</dc:language>
  <cp:lastModifiedBy>John Gerlt</cp:lastModifiedBy>
  <dcterms:modified xsi:type="dcterms:W3CDTF">2011-10-09T14:37:13Z</dcterms:modified>
  <cp:revision>10</cp:revision>
  <dc:subject/>
  <dc:title>PowerPoint Presentation</dc:title>
</cp:coreProperties>
</file>